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09B-1891-4648-8A2E-79008F36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A4A-3B96-4635-8120-A5B7AFB2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26CA-6112-48BD-89A4-FCF17515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075-50C7-4F63-9FF9-BE044CDEF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BB89-C313-4B89-896A-A2799AC4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0684-AFF9-45C7-B031-A5084097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E3BE-E30B-4578-98B5-15585D4D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7E97-D61E-43AC-891F-7A99ED3B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59E6-11A1-4E42-B64B-CA3F358E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B81-F7FC-499D-A92C-61CA7D283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52E-83B3-4A63-B2BD-FA8EFF20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72E-65F8-42EF-A6DA-DA07BCA0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F3CD-886C-4665-ACB2-E0B362D05A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573120" y="2120760"/>
            <a:ext cx="7991280" cy="2670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-43920" y="357120"/>
            <a:ext cx="915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Разработал: учитель  ТМКОУ «Хетская средня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Calibri"/>
              </a:rPr>
              <a:t>Михайлова Клавдия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077120" y="549360"/>
            <a:ext cx="601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ымныы-кара8а кы4ы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Мастаак – талактаак 4ирг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ччугуй елочка 66нэ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К2г2рк2й-к62к тура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2283120" y="3573360"/>
            <a:ext cx="6739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голор ону к2рб6ттэ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о8уо диэн елоч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ымныы каары ка4ан кастан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Бы4ан, эгэлбиттэ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843840" y="836640"/>
            <a:ext cx="6313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ну боскуойдаан турдула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нньуурдары ыйа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4а8а дьылы ылаарыла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Ырыалары  ылла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"/>
          <p:cNvSpPr/>
          <p:nvPr/>
        </p:nvSpPr>
        <p:spPr>
          <a:xfrm>
            <a:off x="2119320" y="4005360"/>
            <a:ext cx="6266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Ичигэс – 4ырдык ускуола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Э8и8-э8и8 уоттаа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Боскуой к62к елочка турар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голорго 62рэ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8:32:46Z</dcterms:created>
  <dc:creator>oxana</dc:creator>
  <dc:description/>
  <dc:language>en-US</dc:language>
  <cp:lastModifiedBy>Влад</cp:lastModifiedBy>
  <dcterms:modified xsi:type="dcterms:W3CDTF">2017-01-23T06:58:32Z</dcterms:modified>
  <cp:revision>14</cp:revision>
  <dc:subject/>
  <dc:title>Колокольчик</dc:title>
</cp:coreProperties>
</file>