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8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F44D-EB99-4C1F-ABD6-959A4B77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5D38-FB8A-4DAA-9132-36EA9C68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592-76EB-47CA-AC52-BD822630B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A723-1325-462C-9783-95572EDF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835C-AC02-492F-8FBF-8C9B3204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EDA6-C08E-4342-B870-15ACDCFF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03FC-AA1D-4A8F-8E17-97521DFE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228-E2B0-4430-A453-8BBF3143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9878-A372-4E88-B9CA-34C47309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A456B-B1A8-4840-BBAE-C0707C06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BA74-79A1-48FF-A7DE-6F8A4BCD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338-EAF3-4DD9-B6AA-34EF0030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42B-15B7-46B7-A076-17164DAA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8B41-CD20-420F-9AFA-647039D7B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E617-72DE-401E-B4DB-4EAADC40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16F4-5D3E-479F-8FCE-A8E79D052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94BC-4BE7-4671-86A5-E8CB20F81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66380-9E7C-4F7F-B7A7-6F9E68EB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6A6D-E7E0-4F68-89BD-A9671127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0A75C-8191-4293-8DD0-56388A17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685F-F3F7-417F-ABCE-AE936E6D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C5402-B9A7-4210-B176-CC3B497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82D-379B-4B43-817E-5DD2E7D4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3AF5B-AB5A-4C80-9C7A-E9298C1D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FEFE4-2E5F-47FC-970B-E12E3505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B7532-96C2-4A39-BE7D-EA9B69C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23FD0-3FDF-4070-8625-768FF82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6B551-1821-44E4-A4A0-373B66CE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02F10-48BB-4E7C-B374-2D5356DC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1845-5248-4B51-A3C0-D8635ACD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ABE36-7D96-4A57-A34B-2B969A9A6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6732B-B48F-417D-988E-2A0A7A22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21F5-6861-4D8A-87DF-D694CED4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CA30-B7BD-417A-AD54-18BD8288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D587-5961-4E6C-9453-4D92B1D1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D82C-F648-4E46-B5D7-2F0AF4D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13416-9BA2-4957-AAF2-71EC98991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1FEE-AED3-4E15-8B1E-A45B4921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CC92A-AB7B-4891-82A8-CC4D700E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2EFF-8222-488D-B8BF-C5C0294F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1520-F3F3-4751-9AA2-E901322C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0245-641E-49DA-BA2F-6713B9009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DAB20-5934-4B8B-B69D-0503C6E6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8C7A-60E3-41B4-8830-6E4323B3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741-904B-486D-90BA-F1F115CE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98C-4C12-4BD5-BA0E-BEF81268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BB85-8D04-4AF0-8357-2D03F58E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1574-E244-4E2C-9A40-5A910C68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C707-A90B-4EA9-8900-EA0F781B8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922-B32A-402E-9DD1-2CA14BD5D2A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8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9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9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custGeom>
                  <a:avLst/>
                  <a:gdLst>
                    <a:gd name="textAreaLeft" fmla="*/ 0 w 429840"/>
                    <a:gd name="textAreaRight" fmla="*/ 430200 w 42984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custGeom>
                  <a:avLst/>
                  <a:gdLst>
                    <a:gd name="textAreaLeft" fmla="*/ 0 w 807480"/>
                    <a:gd name="textAreaRight" fmla="*/ 807840 w 80748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custGeom>
                  <a:avLst/>
                  <a:gdLst>
                    <a:gd name="textAreaLeft" fmla="*/ 0 w 1212120"/>
                    <a:gd name="textAreaRight" fmla="*/ 1212480 w 12121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custGeom>
                  <a:avLst/>
                  <a:gdLst>
                    <a:gd name="textAreaLeft" fmla="*/ 0 w 270000"/>
                    <a:gd name="textAreaRight" fmla="*/ 270360 w 2700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custGeom>
                  <a:avLst/>
                  <a:gdLst>
                    <a:gd name="textAreaLeft" fmla="*/ 0 w 285840"/>
                    <a:gd name="textAreaRight" fmla="*/ 286200 w 28584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99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8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7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8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F31-5847-40EC-A995-41940241E5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8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197" name="Freeform 19"/>
            <p:cNvSpPr/>
            <p:nvPr/>
          </p:nvSpPr>
          <p:spPr>
            <a:xfrm rot="7320000">
              <a:off x="7790760" y="4661280"/>
              <a:ext cx="998640" cy="4633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3320"/>
                <a:gd name="textAreaBottom" fmla="*/ 463680 h 4633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20"/>
            <p:cNvSpPr/>
            <p:nvPr/>
          </p:nvSpPr>
          <p:spPr>
            <a:xfrm rot="7320000">
              <a:off x="7766640" y="4640040"/>
              <a:ext cx="995400" cy="4586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21"/>
            <p:cNvSpPr/>
            <p:nvPr/>
          </p:nvSpPr>
          <p:spPr>
            <a:xfrm rot="7320000">
              <a:off x="7934760" y="4626000"/>
              <a:ext cx="660240" cy="419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0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201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32CC-E3A6-4A54-8D1C-4EF9CA173A1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90360" y="404280"/>
            <a:ext cx="76849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d42816"/>
                </a:solidFill>
                <a:latin typeface="Arial Black"/>
              </a:rPr>
              <a:t>Долганские </a:t>
            </a:r>
            <a:br>
              <a:rPr sz="6600"/>
            </a:br>
            <a:r>
              <a:rPr b="1" lang="ru-RU" sz="6600" spc="-1" strike="noStrike">
                <a:solidFill>
                  <a:srgbClr val="d42816"/>
                </a:solidFill>
                <a:latin typeface="Arial Black"/>
              </a:rPr>
              <a:t>загадки</a:t>
            </a:r>
            <a:br>
              <a:rPr sz="6600"/>
            </a:b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240" y="4653000"/>
            <a:ext cx="72327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214280" y="2286000"/>
            <a:ext cx="7207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4395600" y="32464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8244000" y="1700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395600" y="32464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 flipH="1">
            <a:off x="7740720" y="3246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Прямоугольник 10"/>
          <p:cNvSpPr/>
          <p:nvPr/>
        </p:nvSpPr>
        <p:spPr>
          <a:xfrm>
            <a:off x="1143000" y="2828880"/>
            <a:ext cx="678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ставитель: Михайлова Клавдия Иван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 ТМК ОУ «Хетская средняя школа» п.Хе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1285920" y="4643280"/>
            <a:ext cx="742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900"/>
                </a:solidFill>
                <a:latin typeface="Arial"/>
              </a:rPr>
              <a:t>h</a:t>
            </a:r>
            <a:r>
              <a:rPr b="1" lang="ru-RU" sz="4400" spc="-1" strike="noStrike">
                <a:solidFill>
                  <a:srgbClr val="00b900"/>
                </a:solidFill>
                <a:latin typeface="Arial"/>
              </a:rPr>
              <a:t>ака таабырыынна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8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15" dur="1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e2e47"/>
                </a:solidFill>
                <a:latin typeface="Arial Black"/>
              </a:rPr>
              <a:t>снег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0" y="2887920"/>
            <a:ext cx="4857840" cy="2043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Кы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һ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ын 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һ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иргэ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һ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ыта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hаас   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ү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рэккэ    h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үү</a:t>
            </a:r>
            <a:r>
              <a:rPr b="0" lang="ru-RU" sz="3200" spc="-1" strike="noStrike">
                <a:solidFill>
                  <a:srgbClr val="ff0066"/>
                </a:solidFill>
                <a:latin typeface="Verdana"/>
              </a:rPr>
              <a:t>рэ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Picture 4" descr="MPj04252690000[1]"/>
          <p:cNvPicPr/>
          <p:nvPr/>
        </p:nvPicPr>
        <p:blipFill>
          <a:blip r:embed="rId1"/>
          <a:stretch/>
        </p:blipFill>
        <p:spPr>
          <a:xfrm>
            <a:off x="4917960" y="2692440"/>
            <a:ext cx="3927600" cy="2616120"/>
          </a:xfrm>
          <a:prstGeom prst="rect">
            <a:avLst/>
          </a:prstGeom>
          <a:ln w="0">
            <a:noFill/>
          </a:ln>
        </p:spPr>
      </p:pic>
      <p:pic>
        <p:nvPicPr>
          <p:cNvPr id="296" name="Прямоугольник 5" descr=""/>
          <p:cNvPicPr/>
          <p:nvPr/>
        </p:nvPicPr>
        <p:blipFill>
          <a:blip r:embed="rId2"/>
          <a:stretch/>
        </p:blipFill>
        <p:spPr>
          <a:xfrm>
            <a:off x="5772240" y="798480"/>
            <a:ext cx="2103480" cy="1920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ipe dir="r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Clr clrSpc="rgb">
                                      <p:cBhvr>
                                        <p:cTn id="31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animClr clrSpc="rgb">
                                      <p:cBhvr>
                                        <p:cTn id="31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31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2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 Black"/>
              </a:rPr>
              <a:t>зим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140000" y="1905120"/>
            <a:ext cx="46083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Каар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һ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ыта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Пурга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ү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рэ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Ү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рэктэр  буустаакт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Бу ка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һ</a:t>
            </a:r>
            <a:r>
              <a:rPr b="0" lang="ru-RU" sz="3200" spc="-1" strike="noStrike">
                <a:solidFill>
                  <a:srgbClr val="333399"/>
                </a:solidFill>
                <a:latin typeface="Verdana"/>
              </a:rPr>
              <a:t>ан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уолаччыный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4" descr="MPj04252910000[1]"/>
          <p:cNvPicPr/>
          <p:nvPr/>
        </p:nvPicPr>
        <p:blipFill>
          <a:blip r:embed="rId1"/>
          <a:stretch/>
        </p:blipFill>
        <p:spPr>
          <a:xfrm>
            <a:off x="500040" y="2500200"/>
            <a:ext cx="3927600" cy="2614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4" descr=""/>
          <p:cNvPicPr/>
          <p:nvPr/>
        </p:nvPicPr>
        <p:blipFill>
          <a:blip r:embed="rId2"/>
          <a:stretch/>
        </p:blipFill>
        <p:spPr>
          <a:xfrm>
            <a:off x="1200240" y="438120"/>
            <a:ext cx="2103480" cy="1920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851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Постарались все ребятки –</a:t>
            </a:r>
            <a:br>
              <a:rPr sz="4000"/>
            </a:br>
            <a:r>
              <a:rPr b="1" lang="ru-RU" sz="4000" spc="-1" strike="noStrike">
                <a:solidFill>
                  <a:srgbClr val="ff0066"/>
                </a:solidFill>
                <a:latin typeface="Arial Black"/>
              </a:rPr>
              <a:t>отгадали все загадки!</a:t>
            </a:r>
            <a:r>
              <a:rPr b="1" lang="ru-RU" sz="4000" spc="-1" strike="noStrike">
                <a:solidFill>
                  <a:srgbClr val="cc0000"/>
                </a:solidFill>
                <a:latin typeface="Arial Black"/>
              </a:rPr>
              <a:t> ♫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Franklin Gothic Demi"/>
              </a:rPr>
              <a:t>♫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Picture 7" descr="i?id=153674768-46-72"/>
          <p:cNvPicPr/>
          <p:nvPr/>
        </p:nvPicPr>
        <p:blipFill>
          <a:blip r:embed="rId1"/>
          <a:stretch/>
        </p:blipFill>
        <p:spPr>
          <a:xfrm>
            <a:off x="2627280" y="2637000"/>
            <a:ext cx="4392720" cy="331308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newsflash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1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95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О</a:t>
            </a:r>
            <a:r>
              <a:rPr b="1" lang="ru-RU" sz="7200" spc="-1" strike="noStrike">
                <a:solidFill>
                  <a:srgbClr val="ff9900"/>
                </a:solidFill>
                <a:latin typeface="Arial"/>
              </a:rPr>
              <a:t>Н</a:t>
            </a: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Е</a:t>
            </a:r>
            <a:r>
              <a:rPr b="1" lang="ru-RU" sz="7200" spc="-1" strike="noStrike">
                <a:solidFill>
                  <a:srgbClr val="306bc2"/>
                </a:solidFill>
                <a:latin typeface="Arial"/>
              </a:rPr>
              <a:t>Ц</a:t>
            </a:r>
            <a:r>
              <a:rPr b="1" lang="ru-RU" sz="7200" spc="-1" strike="noStrike">
                <a:solidFill>
                  <a:srgbClr val="ff0066"/>
                </a:solidFill>
                <a:latin typeface="Arial"/>
              </a:rPr>
              <a:t>!!!</a:t>
            </a:r>
            <a:r>
              <a:rPr b="1" lang="ru-RU" sz="7200" spc="-1" strike="noStrike">
                <a:solidFill>
                  <a:srgbClr val="ffff00"/>
                </a:solidFill>
                <a:latin typeface="Arial"/>
              </a:rPr>
              <a:t>)))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9000">
    <p:wipe dir="l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3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99"/>
            </a:gs>
            <a:gs pos="100000">
              <a:srgbClr val="fff9b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ffef66"/>
              </a:gs>
            </a:gsLst>
            <a:lin ang="5400000"/>
          </a:gradFill>
          <a:ln w="9360">
            <a:solidFill>
              <a:srgbClr val="ffe705"/>
            </a:solidFill>
            <a:miter/>
          </a:ln>
        </p:spPr>
        <p:txBody>
          <a:bodyPr anchor="t">
            <a:normAutofit fontScale="90000"/>
          </a:bodyPr>
          <a:p>
            <a:pPr marL="3085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66"/>
                </a:solidFill>
                <a:latin typeface="Comic Sans MS"/>
              </a:rPr>
              <a:t>Отгадайте-ка,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3300"/>
                </a:solidFill>
                <a:latin typeface="Comic Sans MS"/>
              </a:rPr>
              <a:t>ребятки,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200"/>
                </a:solidFill>
                <a:latin typeface="Comic Sans MS"/>
              </a:rPr>
              <a:t>долганские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00"/>
                </a:solidFill>
                <a:latin typeface="Comic Sans MS"/>
              </a:rPr>
              <a:t>☺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600cc"/>
                </a:solidFill>
                <a:latin typeface="Comic Sans MS"/>
              </a:rPr>
              <a:t>Загадки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1835280" y="4292640"/>
            <a:ext cx="266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c3300"/>
                </a:solidFill>
                <a:latin typeface="Franklin Gothic Demi"/>
              </a:rPr>
              <a:t>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">
    <p:wipe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3 -0.046 -0.16647 -0.113 -0.1718 C -0.177 -0.17846 -0.237 -0.11853 -0.241 -0.03196 C -0.246 0.04794 -0.204 0.12252 -0.144 0.12785 C -0.089 0.13185 -0.037 0.08257 -0.033 0.00799 C -0.029 -0.05993 -0.064 -0.12386 -0.115 -0.12918 C -0.162 -0.13318 -0.206 -0.09189 -0.209 -0.0293 C -0.212 0.02664 -0.184 0.08124 -0.142 0.0839 C -0.104 0.0879 -0.068 0.05594 -0.065 0.00533 C -0.063 -0.03995 -0.084 -0.0839 -0.117 -0.08657 C -0.146 -0.08923 -0.175 -0.06526 -0.177 -0.02664 C -0.179 0.00666 -0.164 0.03862 -0.14 0.04129 C -0.12 0.04395 -0.099 0.0293 -0.098 0.00266 C -0.096 -0.01865 -0.104 -0.04129 -0.119 -0.04395 C -0.131 -0.04395 -0.143 -0.03862 -0.145 -0.02397 C -0.146 -0.01465 -0.144 -0.00533 -0.138 -0.00133 C -0.135 0 -0.133 0 -0.13 -0.00133 E">
                                      <p:cBhvr>
                                        <p:cTn id="43" dur="2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" dur="5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4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" dur="1600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6829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c4a70"/>
                </a:solidFill>
                <a:latin typeface="Arial Black"/>
              </a:rPr>
              <a:t>ще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15d9"/>
                </a:solidFill>
                <a:latin typeface="Arial"/>
              </a:rPr>
              <a:t>Минигин гыт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15d9"/>
                </a:solidFill>
                <a:latin typeface="Arial"/>
              </a:rPr>
              <a:t>Ускуолага барс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15d9"/>
                </a:solidFill>
                <a:latin typeface="Arial"/>
              </a:rPr>
              <a:t>Минигин гытт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815d9"/>
                </a:solidFill>
                <a:latin typeface="Arial"/>
              </a:rPr>
              <a:t>Та</a:t>
            </a:r>
            <a:r>
              <a:rPr b="1" lang="en-US" sz="3200" spc="-1" strike="noStrike">
                <a:solidFill>
                  <a:srgbClr val="4815d9"/>
                </a:solidFill>
                <a:latin typeface="Arial"/>
              </a:rPr>
              <a:t>h</a:t>
            </a:r>
            <a:r>
              <a:rPr b="1" lang="ru-RU" sz="3200" spc="-1" strike="noStrike">
                <a:solidFill>
                  <a:srgbClr val="4815d9"/>
                </a:solidFill>
                <a:latin typeface="Arial"/>
              </a:rPr>
              <a:t>араа оньу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Picture 5" descr="сказка"/>
          <p:cNvPicPr/>
          <p:nvPr/>
        </p:nvPicPr>
        <p:blipFill>
          <a:blip r:embed="rId1"/>
          <a:srcRect l="0" t="55965" r="67495" b="0"/>
          <a:stretch/>
        </p:blipFill>
        <p:spPr>
          <a:xfrm>
            <a:off x="5500800" y="1000080"/>
            <a:ext cx="3311280" cy="4032360"/>
          </a:xfrm>
          <a:prstGeom prst="rect">
            <a:avLst/>
          </a:prstGeom>
          <a:ln w="0">
            <a:noFill/>
          </a:ln>
        </p:spPr>
      </p:pic>
      <p:pic>
        <p:nvPicPr>
          <p:cNvPr id="263" name="Прямоугольник 6" descr=""/>
          <p:cNvPicPr/>
          <p:nvPr/>
        </p:nvPicPr>
        <p:blipFill>
          <a:blip r:embed="rId2"/>
          <a:stretch/>
        </p:blipFill>
        <p:spPr>
          <a:xfrm>
            <a:off x="5950080" y="4584600"/>
            <a:ext cx="2157120" cy="191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529ab"/>
                </a:solidFill>
                <a:latin typeface="Arial Black"/>
              </a:rPr>
              <a:t>Солнц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71840" y="1500120"/>
            <a:ext cx="6929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ини тыгар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ырдык,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ырды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рсиэрдэ, кунус, тун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у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иниитэн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ыдырды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ып уоту биэрэ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Гинэкэ котон тийбэк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ырдыгы, итии биэрки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илэрг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Arial"/>
              </a:rPr>
              <a:t>Итини билэр улаканы гытта куччугу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23" descr=""/>
          <p:cNvPicPr/>
          <p:nvPr/>
        </p:nvPicPr>
        <p:blipFill>
          <a:blip r:embed="rId1"/>
          <a:stretch/>
        </p:blipFill>
        <p:spPr>
          <a:xfrm>
            <a:off x="0" y="1357200"/>
            <a:ext cx="3357720" cy="3365640"/>
          </a:xfrm>
          <a:prstGeom prst="rect">
            <a:avLst/>
          </a:prstGeom>
          <a:ln w="0">
            <a:noFill/>
          </a:ln>
        </p:spPr>
      </p:pic>
      <p:pic>
        <p:nvPicPr>
          <p:cNvPr id="267" name="Прямоугольник 4" descr=""/>
          <p:cNvPicPr/>
          <p:nvPr/>
        </p:nvPicPr>
        <p:blipFill>
          <a:blip r:embed="rId2"/>
          <a:stretch/>
        </p:blipFill>
        <p:spPr>
          <a:xfrm>
            <a:off x="706320" y="4657680"/>
            <a:ext cx="2586240" cy="1919160"/>
          </a:xfrm>
          <a:prstGeom prst="rect">
            <a:avLst/>
          </a:prstGeom>
          <a:ln w="0">
            <a:noFill/>
          </a:ln>
        </p:spPr>
      </p:pic>
    </p:spTree>
  </p:cSld>
  <p:transition spd="slow">
    <p:plus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2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2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2000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cc00"/>
                </a:solidFill>
                <a:latin typeface="Arial Black"/>
              </a:rPr>
              <a:t>книг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49000"/>
            <a:ext cx="392904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6bc2"/>
                </a:solidFill>
                <a:latin typeface="Arial"/>
              </a:rPr>
              <a:t>Талак буолбатак, </a:t>
            </a:r>
            <a:r>
              <a:rPr b="1" lang="en-US" sz="2800" spc="-1" strike="noStrike">
                <a:solidFill>
                  <a:srgbClr val="306bc2"/>
                </a:solidFill>
                <a:latin typeface="Arial"/>
              </a:rPr>
              <a:t>h</a:t>
            </a:r>
            <a:r>
              <a:rPr b="1" lang="ru-RU" sz="2800" spc="-1" strike="noStrike">
                <a:solidFill>
                  <a:srgbClr val="306bc2"/>
                </a:solidFill>
                <a:latin typeface="Arial"/>
              </a:rPr>
              <a:t>эбирдэктээ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6bc2"/>
                </a:solidFill>
                <a:latin typeface="Arial"/>
              </a:rPr>
              <a:t>Танас буолбаток, тииппибэтэ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0" descr="BS00554_"/>
          <p:cNvPicPr/>
          <p:nvPr/>
        </p:nvPicPr>
        <p:blipFill>
          <a:blip r:embed="rId1"/>
          <a:stretch/>
        </p:blipFill>
        <p:spPr>
          <a:xfrm>
            <a:off x="5000760" y="1357200"/>
            <a:ext cx="3927240" cy="3429000"/>
          </a:xfrm>
          <a:prstGeom prst="rect">
            <a:avLst/>
          </a:prstGeom>
          <a:ln w="0">
            <a:noFill/>
          </a:ln>
        </p:spPr>
      </p:pic>
      <p:pic>
        <p:nvPicPr>
          <p:cNvPr id="271" name="Прямоугольник 4" descr=""/>
          <p:cNvPicPr/>
          <p:nvPr/>
        </p:nvPicPr>
        <p:blipFill>
          <a:blip r:embed="rId2"/>
          <a:stretch/>
        </p:blipFill>
        <p:spPr>
          <a:xfrm>
            <a:off x="5950080" y="4511520"/>
            <a:ext cx="2170080" cy="19195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strips dir="l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 Black"/>
              </a:rPr>
              <a:t>чайн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143240" y="1904760"/>
            <a:ext cx="4702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991f"/>
                </a:solidFill>
                <a:latin typeface="Arial"/>
              </a:rPr>
              <a:t>«Ычча» дин – дин уокка киирэ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6991f"/>
                </a:solidFill>
                <a:latin typeface="Arial"/>
              </a:rPr>
              <a:t>«Атай» дин – дин уоттан такса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0487-16"/>
          <p:cNvPicPr/>
          <p:nvPr/>
        </p:nvPicPr>
        <p:blipFill>
          <a:blip r:embed="rId1"/>
          <a:srcRect l="49499" t="44882" r="0" b="7382"/>
          <a:stretch/>
        </p:blipFill>
        <p:spPr>
          <a:xfrm>
            <a:off x="785880" y="1714680"/>
            <a:ext cx="2908080" cy="399384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6" descr=""/>
          <p:cNvPicPr/>
          <p:nvPr/>
        </p:nvPicPr>
        <p:blipFill>
          <a:blip r:embed="rId2"/>
          <a:stretch/>
        </p:blipFill>
        <p:spPr>
          <a:xfrm>
            <a:off x="835200" y="4870440"/>
            <a:ext cx="2199960" cy="19209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2f20"/>
                </a:solidFill>
                <a:latin typeface="Arial Black"/>
              </a:rPr>
              <a:t>обла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48360" y="1904760"/>
            <a:ext cx="369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уок бэргэ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арыта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амылык аг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12" descr="320A4F43"/>
          <p:cNvPicPr/>
          <p:nvPr/>
        </p:nvPicPr>
        <p:blipFill>
          <a:blip r:embed="rId1"/>
          <a:srcRect l="59490" t="28406" r="10999" b="55021"/>
          <a:stretch/>
        </p:blipFill>
        <p:spPr>
          <a:xfrm>
            <a:off x="2000160" y="3000240"/>
            <a:ext cx="3286080" cy="1285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320A4F43"/>
          <p:cNvPicPr/>
          <p:nvPr/>
        </p:nvPicPr>
        <p:blipFill>
          <a:blip r:embed="rId2"/>
          <a:srcRect l="60971" t="29288" r="4917" b="55416"/>
          <a:stretch/>
        </p:blipFill>
        <p:spPr>
          <a:xfrm>
            <a:off x="357120" y="2143080"/>
            <a:ext cx="3265560" cy="114300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8"/>
          <p:cNvSpPr/>
          <p:nvPr/>
        </p:nvSpPr>
        <p:spPr>
          <a:xfrm>
            <a:off x="2330280" y="4383000"/>
            <a:ext cx="93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5c00"/>
                </a:solidFill>
                <a:latin typeface="Arial"/>
              </a:rPr>
              <a:t>б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trips dir="ld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 Black"/>
              </a:rPr>
              <a:t>вёд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Баралларыгар – куллсэлэ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Кэллэригэр – ытылл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Блок-схема: ручное управление 5"/>
          <p:cNvSpPr/>
          <p:nvPr/>
        </p:nvSpPr>
        <p:spPr>
          <a:xfrm>
            <a:off x="3643200" y="4572000"/>
            <a:ext cx="2071800" cy="1684440"/>
          </a:xfrm>
          <a:prstGeom prst="flowChartManualOperation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Блок-схема: ручное управление 6"/>
          <p:cNvSpPr/>
          <p:nvPr/>
        </p:nvSpPr>
        <p:spPr>
          <a:xfrm>
            <a:off x="6500880" y="4643280"/>
            <a:ext cx="2071800" cy="1613160"/>
          </a:xfrm>
          <a:prstGeom prst="flowChartManualOperation">
            <a:avLst/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Месяц 8"/>
          <p:cNvSpPr/>
          <p:nvPr/>
        </p:nvSpPr>
        <p:spPr>
          <a:xfrm rot="5242800">
            <a:off x="4245840" y="3173400"/>
            <a:ext cx="816120" cy="19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есяц 9"/>
          <p:cNvSpPr/>
          <p:nvPr/>
        </p:nvSpPr>
        <p:spPr>
          <a:xfrm rot="5242800">
            <a:off x="7103160" y="3173400"/>
            <a:ext cx="816120" cy="198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Прямоугольник 10" descr=""/>
          <p:cNvPicPr/>
          <p:nvPr/>
        </p:nvPicPr>
        <p:blipFill>
          <a:blip r:embed="rId1"/>
          <a:stretch/>
        </p:blipFill>
        <p:spPr>
          <a:xfrm>
            <a:off x="5126040" y="1438200"/>
            <a:ext cx="2238480" cy="1920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edg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2107e"/>
                </a:solidFill>
                <a:latin typeface="Arial Black"/>
              </a:rPr>
              <a:t>бабоч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916520" y="1904760"/>
            <a:ext cx="3929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Камнылар от атытыга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Барыта туорт кыннат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Мин бы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h</a:t>
            </a: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ары гыймыты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Гини камнабыт коппут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1" descr=""/>
          <p:cNvPicPr/>
          <p:nvPr/>
        </p:nvPicPr>
        <p:blipFill>
          <a:blip r:embed="rId1"/>
          <a:stretch/>
        </p:blipFill>
        <p:spPr>
          <a:xfrm>
            <a:off x="642960" y="1928880"/>
            <a:ext cx="3857760" cy="4351320"/>
          </a:xfrm>
          <a:prstGeom prst="rect">
            <a:avLst/>
          </a:prstGeom>
          <a:ln w="0">
            <a:noFill/>
          </a:ln>
        </p:spPr>
      </p:pic>
      <p:pic>
        <p:nvPicPr>
          <p:cNvPr id="291" name="Прямоугольник 4" descr=""/>
          <p:cNvPicPr/>
          <p:nvPr/>
        </p:nvPicPr>
        <p:blipFill>
          <a:blip r:embed="rId2"/>
          <a:stretch/>
        </p:blipFill>
        <p:spPr>
          <a:xfrm>
            <a:off x="768240" y="158760"/>
            <a:ext cx="2266920" cy="1919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21:19:18Z</dcterms:created>
  <dc:creator>Moroz</dc:creator>
  <dc:description/>
  <dc:language>en-US</dc:language>
  <cp:lastModifiedBy>Влад</cp:lastModifiedBy>
  <dcterms:modified xsi:type="dcterms:W3CDTF">2017-01-17T12:57:16Z</dcterms:modified>
  <cp:revision>19</cp:revision>
  <dc:subject/>
  <dc:title>Музыкальные инструменты</dc:title>
</cp:coreProperties>
</file>