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3C8-ACA0-4929-9D62-CCE866DA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A7C-346E-4F09-8690-998061B0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81EE-7387-4507-9703-E2864B7C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688-C9D6-4FB6-AA8D-94831850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35F5-0C95-4C51-8472-B1EE3957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A3AA-5DA0-4EB1-ACDA-12023354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AFAD-E6B2-4C90-B0CF-384F4E43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5230-6F88-4554-97B1-8D667457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751C-12D5-45AC-A0D9-6DE3871A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979F-B429-4FBB-9C95-99478761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50D2-5FC0-498A-8796-45055E82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4F33-8187-4B9C-B455-52D5F503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2A27-A7D2-47C0-AD9B-47D3D7D3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F5D6-B4D3-4E73-9E04-AD0EF2BF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84FF-4A20-449F-9359-436DDAD6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0871-9DEF-4D5B-BDF8-1EA96B54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A476-8766-419D-9E58-BCBAF410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B05-E938-4A46-8F67-3217E157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309A-C4B1-4A90-B7CA-98CA44E5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FFC-42FC-4ED5-9541-EC99713A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185-F3C2-4064-83B9-1A667E86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6645-3B98-48C2-863D-44B292AF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EA9-D62A-40B0-8796-A302FBE0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03D-EDD2-45EE-9645-F1CA1586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2D2D-DE0E-44E3-80B8-5EB5302BB1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9A94-4D34-49F1-91CA-93F593C020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p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457200" y="1600200"/>
            <a:ext cx="8229600" cy="24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КЛАМНА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УЗ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86040" y="2428560"/>
            <a:ext cx="59292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Comic Sans MS"/>
              </a:rPr>
              <a:t>Хахыл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Кара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omic Sans MS"/>
              </a:rPr>
              <a:t>Кыхы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1476360" y="260280"/>
            <a:ext cx="612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I отборочный тур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7380360" y="2349360"/>
            <a:ext cx="143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6887520" y="5300640"/>
            <a:ext cx="1665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Мол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22"/>
          <p:cNvSpPr/>
          <p:nvPr/>
        </p:nvSpPr>
        <p:spPr>
          <a:xfrm>
            <a:off x="6643800" y="3643200"/>
            <a:ext cx="151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Неб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2124000" y="476280"/>
            <a:ext cx="532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ние III тур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7" name="Group 18"/>
          <p:cNvGrpSpPr/>
          <p:nvPr/>
        </p:nvGrpSpPr>
        <p:grpSpPr>
          <a:xfrm>
            <a:off x="684360" y="4005360"/>
            <a:ext cx="7634160" cy="1152360"/>
            <a:chOff x="684360" y="4005360"/>
            <a:chExt cx="7634160" cy="1152360"/>
          </a:xfrm>
        </p:grpSpPr>
        <p:sp>
          <p:nvSpPr>
            <p:cNvPr id="158" name="Rectangle 7"/>
            <p:cNvSpPr/>
            <p:nvPr/>
          </p:nvSpPr>
          <p:spPr>
            <a:xfrm>
              <a:off x="684360" y="4005360"/>
              <a:ext cx="82080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1744560" y="4005360"/>
              <a:ext cx="81936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Rectangle 9"/>
            <p:cNvSpPr/>
            <p:nvPr/>
          </p:nvSpPr>
          <p:spPr>
            <a:xfrm>
              <a:off x="2711520" y="4005360"/>
              <a:ext cx="82080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Rectangle 10"/>
            <p:cNvSpPr/>
            <p:nvPr/>
          </p:nvSpPr>
          <p:spPr>
            <a:xfrm>
              <a:off x="3681360" y="4005360"/>
              <a:ext cx="81936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4649760" y="4005360"/>
              <a:ext cx="82080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Rectangle 12"/>
            <p:cNvSpPr/>
            <p:nvPr/>
          </p:nvSpPr>
          <p:spPr>
            <a:xfrm>
              <a:off x="5618160" y="4005360"/>
              <a:ext cx="81936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>
              <a:off x="6589800" y="4005360"/>
              <a:ext cx="79380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15"/>
            <p:cNvSpPr/>
            <p:nvPr/>
          </p:nvSpPr>
          <p:spPr>
            <a:xfrm>
              <a:off x="7526520" y="4005360"/>
              <a:ext cx="79200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Comic Sans MS"/>
              </a:rPr>
              <a:t>Хир уунээйилэрэ. Пен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"/>
                            </p:stCondLst>
                            <p:childTnLst>
                              <p:par>
                                <p:cTn id="2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0"/>
          <p:cNvGrpSpPr/>
          <p:nvPr/>
        </p:nvGrpSpPr>
        <p:grpSpPr>
          <a:xfrm>
            <a:off x="611280" y="5084640"/>
            <a:ext cx="7634160" cy="1152720"/>
            <a:chOff x="611280" y="5084640"/>
            <a:chExt cx="7634160" cy="1152720"/>
          </a:xfrm>
        </p:grpSpPr>
        <p:sp>
          <p:nvSpPr>
            <p:cNvPr id="169" name="Rectangle 11"/>
            <p:cNvSpPr/>
            <p:nvPr/>
          </p:nvSpPr>
          <p:spPr>
            <a:xfrm>
              <a:off x="611280" y="5084640"/>
              <a:ext cx="820800" cy="115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990099"/>
                  </a:solidFill>
                  <a:latin typeface="Comic Sans MS"/>
                </a:rPr>
                <a:t>т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Rectangle 12"/>
            <p:cNvSpPr/>
            <p:nvPr/>
          </p:nvSpPr>
          <p:spPr>
            <a:xfrm>
              <a:off x="1671480" y="5084640"/>
              <a:ext cx="819360" cy="115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990099"/>
                  </a:solidFill>
                  <a:latin typeface="Comic Sans MS"/>
                </a:rPr>
                <a:t>о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Rectangle 13"/>
            <p:cNvSpPr/>
            <p:nvPr/>
          </p:nvSpPr>
          <p:spPr>
            <a:xfrm>
              <a:off x="2638440" y="5084640"/>
              <a:ext cx="820800" cy="115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990099"/>
                  </a:solidFill>
                  <a:latin typeface="Comic Sans MS"/>
                </a:rPr>
                <a:t>н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Rectangle 14"/>
            <p:cNvSpPr/>
            <p:nvPr/>
          </p:nvSpPr>
          <p:spPr>
            <a:xfrm>
              <a:off x="3608280" y="5084640"/>
              <a:ext cx="819360" cy="115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990099"/>
                  </a:solidFill>
                  <a:latin typeface="Comic Sans MS"/>
                </a:rPr>
                <a:t>у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Rectangle 15"/>
            <p:cNvSpPr/>
            <p:nvPr/>
          </p:nvSpPr>
          <p:spPr>
            <a:xfrm>
              <a:off x="4576680" y="5084640"/>
              <a:ext cx="820800" cy="115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990099"/>
                  </a:solidFill>
                  <a:latin typeface="Comic Sans MS"/>
                </a:rPr>
                <a:t>р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Rectangle 16"/>
            <p:cNvSpPr/>
            <p:nvPr/>
          </p:nvSpPr>
          <p:spPr>
            <a:xfrm>
              <a:off x="5545080" y="5084640"/>
              <a:ext cx="819360" cy="115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990099"/>
                  </a:solidFill>
                  <a:latin typeface="Comic Sans MS"/>
                </a:rPr>
                <a:t>г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Rectangle 17"/>
            <p:cNvSpPr/>
            <p:nvPr/>
          </p:nvSpPr>
          <p:spPr>
            <a:xfrm>
              <a:off x="6516720" y="5084640"/>
              <a:ext cx="793800" cy="115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990099"/>
                  </a:solidFill>
                  <a:latin typeface="Comic Sans MS"/>
                </a:rPr>
                <a:t>э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Rectangle 18"/>
            <p:cNvSpPr/>
            <p:nvPr/>
          </p:nvSpPr>
          <p:spPr>
            <a:xfrm>
              <a:off x="7453440" y="5084640"/>
              <a:ext cx="792000" cy="115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990099"/>
                  </a:solidFill>
                  <a:latin typeface="Comic Sans MS"/>
                </a:rPr>
                <a:t>с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457200" y="1600200"/>
            <a:ext cx="8229600" cy="27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КЛАМНА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УЗ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Comic Sans MS"/>
              </a:rPr>
              <a:t>Ураха дьиэ Чу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0"/>
          <p:cNvGrpSpPr/>
          <p:nvPr/>
        </p:nvGrpSpPr>
        <p:grpSpPr>
          <a:xfrm>
            <a:off x="1928880" y="3286080"/>
            <a:ext cx="5752800" cy="1152360"/>
            <a:chOff x="1928880" y="3286080"/>
            <a:chExt cx="5752800" cy="1152360"/>
          </a:xfrm>
        </p:grpSpPr>
        <p:sp>
          <p:nvSpPr>
            <p:cNvPr id="183" name="Rectangle 5"/>
            <p:cNvSpPr/>
            <p:nvPr/>
          </p:nvSpPr>
          <p:spPr>
            <a:xfrm>
              <a:off x="1928880" y="3286080"/>
              <a:ext cx="81972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2988360" y="3286080"/>
              <a:ext cx="81972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3956040" y="3286080"/>
              <a:ext cx="81972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4926600" y="3286080"/>
              <a:ext cx="81864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Rectangle 9"/>
            <p:cNvSpPr/>
            <p:nvPr/>
          </p:nvSpPr>
          <p:spPr>
            <a:xfrm>
              <a:off x="5893920" y="3286080"/>
              <a:ext cx="81972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Rectangle 10"/>
            <p:cNvSpPr/>
            <p:nvPr/>
          </p:nvSpPr>
          <p:spPr>
            <a:xfrm>
              <a:off x="6861960" y="3286080"/>
              <a:ext cx="81972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9" name="WordArt 24"/>
          <p:cNvSpPr txBox="1"/>
          <p:nvPr/>
        </p:nvSpPr>
        <p:spPr>
          <a:xfrm>
            <a:off x="1763640" y="404640"/>
            <a:ext cx="568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со зрителям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6"/>
          <p:cNvGrpSpPr/>
          <p:nvPr/>
        </p:nvGrpSpPr>
        <p:grpSpPr>
          <a:xfrm>
            <a:off x="1357200" y="3429000"/>
            <a:ext cx="5752800" cy="1152360"/>
            <a:chOff x="1357200" y="3429000"/>
            <a:chExt cx="5752800" cy="1152360"/>
          </a:xfrm>
        </p:grpSpPr>
        <p:sp>
          <p:nvSpPr>
            <p:cNvPr id="193" name="Rectangle 7"/>
            <p:cNvSpPr/>
            <p:nvPr/>
          </p:nvSpPr>
          <p:spPr>
            <a:xfrm>
              <a:off x="1357200" y="3429000"/>
              <a:ext cx="81972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ff"/>
                  </a:solidFill>
                  <a:latin typeface="Comic Sans MS"/>
                </a:rPr>
                <a:t>д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>
              <a:off x="2416680" y="3429000"/>
              <a:ext cx="81972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ff"/>
                  </a:solidFill>
                  <a:latin typeface="Comic Sans MS"/>
                </a:rPr>
                <a:t>ь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Rectangle 9"/>
            <p:cNvSpPr/>
            <p:nvPr/>
          </p:nvSpPr>
          <p:spPr>
            <a:xfrm>
              <a:off x="3384360" y="3429000"/>
              <a:ext cx="81972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ff"/>
                  </a:solidFill>
                  <a:latin typeface="Comic Sans MS"/>
                </a:rPr>
                <a:t>у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>
              <a:off x="4354920" y="3429000"/>
              <a:ext cx="81864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ff"/>
                  </a:solidFill>
                  <a:latin typeface="Comic Sans MS"/>
                </a:rPr>
                <a:t>к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>
              <a:off x="5322240" y="3429000"/>
              <a:ext cx="81972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ff"/>
                  </a:solidFill>
                  <a:latin typeface="Comic Sans MS"/>
                </a:rPr>
                <a:t>а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6290280" y="3429000"/>
              <a:ext cx="81972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ff"/>
                  </a:solidFill>
                  <a:latin typeface="Comic Sans MS"/>
                </a:rPr>
                <a:t>а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692360" y="549360"/>
            <a:ext cx="64198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нал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79280" y="1773360"/>
            <a:ext cx="80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Кихи онохуута. Пятка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2" name="Group 8"/>
          <p:cNvGrpSpPr/>
          <p:nvPr/>
        </p:nvGrpSpPr>
        <p:grpSpPr>
          <a:xfrm>
            <a:off x="1857240" y="3929040"/>
            <a:ext cx="5329080" cy="914400"/>
            <a:chOff x="1857240" y="3929040"/>
            <a:chExt cx="5329080" cy="914400"/>
          </a:xfrm>
        </p:grpSpPr>
        <p:sp>
          <p:nvSpPr>
            <p:cNvPr id="203" name="Rectangle 9"/>
            <p:cNvSpPr/>
            <p:nvPr/>
          </p:nvSpPr>
          <p:spPr>
            <a:xfrm>
              <a:off x="1857240" y="3929040"/>
              <a:ext cx="658800" cy="9144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Rectangle 10"/>
            <p:cNvSpPr/>
            <p:nvPr/>
          </p:nvSpPr>
          <p:spPr>
            <a:xfrm>
              <a:off x="2634840" y="3929040"/>
              <a:ext cx="658800" cy="9144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>
              <a:off x="3413160" y="3929040"/>
              <a:ext cx="658800" cy="9144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4192200" y="3929040"/>
              <a:ext cx="658800" cy="9144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4970520" y="3929040"/>
              <a:ext cx="658800" cy="9144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5748480" y="3929040"/>
              <a:ext cx="658800" cy="9144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Rectangle 15"/>
            <p:cNvSpPr/>
            <p:nvPr/>
          </p:nvSpPr>
          <p:spPr>
            <a:xfrm>
              <a:off x="6527520" y="3929040"/>
              <a:ext cx="658800" cy="9144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2"/>
          <p:cNvGrpSpPr/>
          <p:nvPr/>
        </p:nvGrpSpPr>
        <p:grpSpPr>
          <a:xfrm>
            <a:off x="1643040" y="4357800"/>
            <a:ext cx="5329080" cy="914400"/>
            <a:chOff x="1643040" y="4357800"/>
            <a:chExt cx="5329080" cy="914400"/>
          </a:xfrm>
        </p:grpSpPr>
        <p:sp>
          <p:nvSpPr>
            <p:cNvPr id="212" name="Rectangle 33"/>
            <p:cNvSpPr/>
            <p:nvPr/>
          </p:nvSpPr>
          <p:spPr>
            <a:xfrm>
              <a:off x="1643040" y="4357800"/>
              <a:ext cx="658800" cy="9144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990099"/>
                  </a:solidFill>
                  <a:latin typeface="Comic Sans MS"/>
                </a:rPr>
                <a:t>т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Rectangle 34"/>
            <p:cNvSpPr/>
            <p:nvPr/>
          </p:nvSpPr>
          <p:spPr>
            <a:xfrm>
              <a:off x="2420640" y="4357800"/>
              <a:ext cx="658800" cy="9144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990099"/>
                  </a:solidFill>
                  <a:latin typeface="Comic Sans MS"/>
                </a:rPr>
                <a:t>и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Rectangle 35"/>
            <p:cNvSpPr/>
            <p:nvPr/>
          </p:nvSpPr>
          <p:spPr>
            <a:xfrm>
              <a:off x="3198960" y="4357800"/>
              <a:ext cx="658800" cy="9144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990099"/>
                  </a:solidFill>
                  <a:latin typeface="Comic Sans MS"/>
                </a:rPr>
                <a:t>н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Rectangle 36"/>
            <p:cNvSpPr/>
            <p:nvPr/>
          </p:nvSpPr>
          <p:spPr>
            <a:xfrm>
              <a:off x="3978000" y="4357800"/>
              <a:ext cx="658800" cy="9144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990099"/>
                  </a:solidFill>
                  <a:latin typeface="Comic Sans MS"/>
                </a:rPr>
                <a:t>и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37"/>
            <p:cNvSpPr/>
            <p:nvPr/>
          </p:nvSpPr>
          <p:spPr>
            <a:xfrm>
              <a:off x="4756320" y="4357800"/>
              <a:ext cx="658800" cy="9144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990099"/>
                  </a:solidFill>
                  <a:latin typeface="Comic Sans MS"/>
                </a:rPr>
                <a:t>л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38"/>
            <p:cNvSpPr/>
            <p:nvPr/>
          </p:nvSpPr>
          <p:spPr>
            <a:xfrm>
              <a:off x="5534280" y="4357800"/>
              <a:ext cx="658800" cy="9144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990099"/>
                  </a:solidFill>
                  <a:latin typeface="Comic Sans MS"/>
                </a:rPr>
                <a:t>э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Rectangle 39"/>
            <p:cNvSpPr/>
            <p:nvPr/>
          </p:nvSpPr>
          <p:spPr>
            <a:xfrm>
              <a:off x="6313320" y="4357800"/>
              <a:ext cx="658800" cy="9144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990099"/>
                  </a:solidFill>
                  <a:latin typeface="Comic Sans MS"/>
                </a:rPr>
                <a:t>к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Comic Sans MS"/>
              </a:rPr>
              <a:t>Кихи туттар эбиэнньэлэрэ. Черпак для очистки проруби ото льд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1908000" y="333360"/>
            <a:ext cx="554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перигр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23" name="Group 5"/>
          <p:cNvGrpSpPr/>
          <p:nvPr/>
        </p:nvGrpSpPr>
        <p:grpSpPr>
          <a:xfrm>
            <a:off x="1187280" y="3789360"/>
            <a:ext cx="6624360" cy="1152000"/>
            <a:chOff x="1187280" y="3789360"/>
            <a:chExt cx="6624360" cy="1152000"/>
          </a:xfrm>
        </p:grpSpPr>
        <p:sp>
          <p:nvSpPr>
            <p:cNvPr id="224" name="Rectangle 6"/>
            <p:cNvSpPr/>
            <p:nvPr/>
          </p:nvSpPr>
          <p:spPr>
            <a:xfrm>
              <a:off x="1187280" y="3789360"/>
              <a:ext cx="1179720" cy="1152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2549160" y="3789360"/>
              <a:ext cx="1179720" cy="1152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>
              <a:off x="3909240" y="3789360"/>
              <a:ext cx="1180080" cy="1152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Rectangle 9"/>
            <p:cNvSpPr/>
            <p:nvPr/>
          </p:nvSpPr>
          <p:spPr>
            <a:xfrm>
              <a:off x="5271120" y="3789360"/>
              <a:ext cx="1180080" cy="1152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6631560" y="3789360"/>
              <a:ext cx="1180080" cy="1152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20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ТМКОУ «Хетская средняя школа» 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.Хета Таймырский райо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03640" y="4869000"/>
            <a:ext cx="568944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Презентацию подготовил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Михайлова Клавдия 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755640" y="1989000"/>
            <a:ext cx="7632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 Поле чудес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7"/>
          <p:cNvGrpSpPr/>
          <p:nvPr/>
        </p:nvGrpSpPr>
        <p:grpSpPr>
          <a:xfrm>
            <a:off x="1187280" y="4869000"/>
            <a:ext cx="6624360" cy="1152000"/>
            <a:chOff x="1187280" y="4869000"/>
            <a:chExt cx="6624360" cy="1152000"/>
          </a:xfrm>
        </p:grpSpPr>
        <p:sp>
          <p:nvSpPr>
            <p:cNvPr id="230" name="Rectangle 8"/>
            <p:cNvSpPr/>
            <p:nvPr/>
          </p:nvSpPr>
          <p:spPr>
            <a:xfrm>
              <a:off x="1187280" y="4869000"/>
              <a:ext cx="1179720" cy="1152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00"/>
                  </a:solidFill>
                  <a:latin typeface="Comic Sans MS"/>
                </a:rPr>
                <a:t>х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Rectangle 9"/>
            <p:cNvSpPr/>
            <p:nvPr/>
          </p:nvSpPr>
          <p:spPr>
            <a:xfrm>
              <a:off x="2549160" y="4869000"/>
              <a:ext cx="1179720" cy="1152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00"/>
                  </a:solidFill>
                  <a:latin typeface="Comic Sans MS"/>
                </a:rPr>
                <a:t>у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0"/>
            <p:cNvSpPr/>
            <p:nvPr/>
          </p:nvSpPr>
          <p:spPr>
            <a:xfrm>
              <a:off x="3909240" y="4869000"/>
              <a:ext cx="1180080" cy="1152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00"/>
                  </a:solidFill>
                  <a:latin typeface="Comic Sans MS"/>
                </a:rPr>
                <a:t>у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1"/>
            <p:cNvSpPr/>
            <p:nvPr/>
          </p:nvSpPr>
          <p:spPr>
            <a:xfrm>
              <a:off x="5271120" y="4869000"/>
              <a:ext cx="1180080" cy="1152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00"/>
                  </a:solidFill>
                  <a:latin typeface="Comic Sans MS"/>
                </a:rPr>
                <a:t>р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2"/>
            <p:cNvSpPr/>
            <p:nvPr/>
          </p:nvSpPr>
          <p:spPr>
            <a:xfrm>
              <a:off x="6631560" y="4869000"/>
              <a:ext cx="1180080" cy="1152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00"/>
                  </a:solidFill>
                  <a:latin typeface="Comic Sans MS"/>
                </a:rPr>
                <a:t>т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85960" y="1170000"/>
            <a:ext cx="4619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Comic Sans MS"/>
              </a:rPr>
              <a:t>  </a:t>
            </a:r>
            <a:r>
              <a:rPr b="1" lang="ru-RU" sz="4800" spc="-1" strike="noStrike">
                <a:solidFill>
                  <a:srgbClr val="9900ff"/>
                </a:solidFill>
                <a:latin typeface="Comic Sans MS"/>
              </a:rPr>
              <a:t>1. ыа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2.эдьиийи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ru-RU" sz="4800" spc="-1" strike="noStrike">
                <a:solidFill>
                  <a:srgbClr val="006600"/>
                </a:solidFill>
                <a:latin typeface="Comic Sans MS"/>
              </a:rPr>
              <a:t>3. убай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763640" y="115920"/>
            <a:ext cx="619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 отборочный тур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6424920" y="381780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Обла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6506280" y="54975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Гра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omic Sans MS"/>
              </a:rPr>
              <a:t>Долгааннар – хакалар астара. Кэрдиилээ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2124000" y="189000"/>
            <a:ext cx="48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ние I тур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8" name="Group 6"/>
          <p:cNvGrpSpPr/>
          <p:nvPr/>
        </p:nvGrpSpPr>
        <p:grpSpPr>
          <a:xfrm>
            <a:off x="1187280" y="3789360"/>
            <a:ext cx="6624360" cy="1152000"/>
            <a:chOff x="1187280" y="3789360"/>
            <a:chExt cx="6624360" cy="1152000"/>
          </a:xfrm>
        </p:grpSpPr>
        <p:sp>
          <p:nvSpPr>
            <p:cNvPr id="109" name="Rectangle 7"/>
            <p:cNvSpPr/>
            <p:nvPr/>
          </p:nvSpPr>
          <p:spPr>
            <a:xfrm>
              <a:off x="1187280" y="3789360"/>
              <a:ext cx="1179720" cy="1152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2549160" y="3789360"/>
              <a:ext cx="1179720" cy="1152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3909240" y="3789360"/>
              <a:ext cx="1180080" cy="1152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5271120" y="3789360"/>
              <a:ext cx="1180080" cy="1152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6631560" y="3789360"/>
              <a:ext cx="1180080" cy="1152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48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1258920" y="4724280"/>
            <a:ext cx="1179360" cy="11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Comic Sans MS"/>
              </a:rPr>
              <a:t>ю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2700360" y="4724280"/>
            <a:ext cx="1179360" cy="11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Comic Sans MS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4054320" y="4724280"/>
            <a:ext cx="1179720" cy="11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Comic Sans MS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5416560" y="4724280"/>
            <a:ext cx="1179360" cy="11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Comic Sans MS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6777000" y="4724280"/>
            <a:ext cx="1179720" cy="11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Comic Sans MS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395280" y="1700280"/>
            <a:ext cx="822960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КЛАМНА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УЗ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286000" y="1214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Агыс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Comic Sans MS"/>
              </a:rPr>
              <a:t>Биэс хуус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omic Sans MS"/>
              </a:rPr>
              <a:t>Оту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2050920" y="0"/>
            <a:ext cx="5545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 отборочный тур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6702480" y="422928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Подорожни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4347000" y="5597640"/>
            <a:ext cx="205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Мать –и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мачех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99"/>
                </a:solidFill>
                <a:latin typeface="Comic Sans MS"/>
              </a:rPr>
              <a:t>Котордор. Турухта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2340000" y="333360"/>
            <a:ext cx="5184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ние II тур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826920" y="3716280"/>
            <a:ext cx="7777080" cy="1152360"/>
            <a:chOff x="826920" y="3716280"/>
            <a:chExt cx="7777080" cy="1152360"/>
          </a:xfrm>
        </p:grpSpPr>
        <p:sp>
          <p:nvSpPr>
            <p:cNvPr id="131" name="Rectangle 6"/>
            <p:cNvSpPr/>
            <p:nvPr/>
          </p:nvSpPr>
          <p:spPr>
            <a:xfrm>
              <a:off x="826920" y="3716280"/>
              <a:ext cx="96156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1962000" y="3716280"/>
              <a:ext cx="96156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097440" y="3716280"/>
              <a:ext cx="96156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4234680" y="3716280"/>
              <a:ext cx="96156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Rectangle 10"/>
            <p:cNvSpPr/>
            <p:nvPr/>
          </p:nvSpPr>
          <p:spPr>
            <a:xfrm>
              <a:off x="5370120" y="3716280"/>
              <a:ext cx="96156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Rectangle 11"/>
            <p:cNvSpPr/>
            <p:nvPr/>
          </p:nvSpPr>
          <p:spPr>
            <a:xfrm>
              <a:off x="6505200" y="3716280"/>
              <a:ext cx="96156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7642440" y="3716280"/>
              <a:ext cx="961560" cy="1152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760"/>
                            </p:stCondLst>
                            <p:childTnLst>
                              <p:par>
                                <p:cTn id="1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39640" y="5157720"/>
            <a:ext cx="962280" cy="11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Comic Sans MS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1674720" y="5157720"/>
            <a:ext cx="962280" cy="11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Comic Sans MS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809800" y="5157720"/>
            <a:ext cx="962280" cy="11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Comic Sans MS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3948120" y="5157720"/>
            <a:ext cx="960480" cy="11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Comic Sans MS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5083200" y="5157720"/>
            <a:ext cx="961920" cy="11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Comic Sans MS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218280" y="5157720"/>
            <a:ext cx="961920" cy="11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Comic Sans MS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7354800" y="5157720"/>
            <a:ext cx="962280" cy="11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Comic Sans MS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6:42:21Z</dcterms:created>
  <dc:creator>XTreme</dc:creator>
  <dc:description/>
  <dc:language>en-US</dc:language>
  <cp:lastModifiedBy>Влад</cp:lastModifiedBy>
  <dcterms:modified xsi:type="dcterms:W3CDTF">2017-01-23T07:28:08Z</dcterms:modified>
  <cp:revision>14</cp:revision>
  <dc:subject>биология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